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6ED21-8293-4909-A7A4-E3F2E7C2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ADD23-F022-4801-BE6C-BEB0251D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DC66C-AFC4-4854-8F01-7BBB6CAD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15956-5354-448B-A71D-A13D4931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D214-F4BB-480D-83F3-FB2674CD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EC9F-373F-419A-A37F-06CBE9A4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5E2A-8F98-4C7A-9822-9B082303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175F-CE9D-4D5F-9128-BC8195B9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74DF-8479-4664-BAD9-BCD031F0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E7C0-906D-4349-A922-764DDC3F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EF58-42D8-4A07-9D6E-6967DCE5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A5871-A7DC-4B7A-8751-F1A47834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F899-E324-45AF-A1C0-F44C6D08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2185-64D5-4EC5-9277-88E86C4C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0E79-3E6B-4EEA-BDD7-DDAD9A92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398C-D307-483F-9377-CA0A20FB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45E8-7E68-4134-9786-06A2D560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29F1D-B11E-4403-86A0-4ACEDC17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3F12B-3206-4716-8E33-2554EDAD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5BD9-DC8F-435B-A562-F6ED3013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2004B-276A-4315-9F5B-37ACAA67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FB9E4-408A-4DD9-B6CF-2FA8590A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EE661-80CC-4912-8689-3D8392C7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E83A2-4908-477E-9FCF-2CBBA48C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727E-200F-4560-8455-3E7A40FA54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E00C-50FB-4ED9-B03C-EFCA89103F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0360" y="1758600"/>
            <a:ext cx="6872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e5ff"/>
                </a:solidFill>
                <a:latin typeface="Garamond"/>
              </a:rPr>
              <a:t>Декодирование графической информации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556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ыполнил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рпова Ольг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ужмарова Настя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ланова Дарь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31640" y="9079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Цель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учить особенности и способ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воения декодирован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афической информации детьми дошкольного возрас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Декодирование 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–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чтение, определение и называние изображаемых объектов и их свойств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екодирование графической информации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Определение, называние свойств изображаемых объектов и их частей (форма, величина, количество, пространственное расположение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Анализ графического состава изображений (виды линий, формы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Конструирование объемных моделей по плоскостному изображению (чертежу, схеме, наглядному изображению, с использованием развертки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1640" y="1196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Определение, называние свойств изображаемых объектов и их частей (форма, величина, количество, пространственное расположение)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704556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Типы заданий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Выделение главных существенных признаков, которые отличают объекты или делают их схожими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Выделение и называние заданных форм в графических изображений; 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Поиск отличий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Выделение сходных деталей и группировка изображений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Анализ графического состава изображений (виды линий, формы)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Типы заданий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Анализ (нахождение, называние) типов линий, использованных в изображении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Поиск отличий в сходных изображениях (по типам линий)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Группировка изображения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366840"/>
            <a:ext cx="707256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Конструирование объемных моделей по плоскостному изображению (чертежу, схеме, наглядному изображению, с использованием развертки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Типы заданий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Конструирование  плоскостных моделей (аппликация, геометрические конструкторы, мозаики, палочки)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Объемных моделей(из бумаги, проволоки и др. материалов)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40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40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40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Дополнительные </a:t>
            </a:r>
            <a:br>
              <a:rPr sz="4000"/>
            </a:b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формы работы</a:t>
            </a:r>
            <a:r>
              <a:rPr b="0" i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03280" y="2205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пражне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пец. зада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огические задач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блемные ситу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00"/>
                            </p:stCondLst>
                            <p:childTnLst>
                              <p:par>
                                <p:cTn id="2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200"/>
                            </p:stCondLst>
                            <p:childTnLst>
                              <p:par>
                                <p:cTn id="2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300"/>
                            </p:stCondLst>
                            <p:childTnLst>
                              <p:par>
                                <p:cTn id="2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600"/>
                            </p:stCondLst>
                            <p:childTnLst>
                              <p:par>
                                <p:cTn id="2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Литератур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сарина Е.Ю. Секреты квадрата и куби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.Г. Гоголева Игры и упражнения для развития конструктивного и логического мышления у детей 4-7 л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геева С.И. Обучение с увлечением (1-2 части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.В. Колесникова Моделирование из геометрических фигу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. Соловьева Твое путешествие и мир геометрии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Б. А. Панасенко Лабирин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аврина С.Е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азвиваем мышле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8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2-23T14:25:29Z</dcterms:modified>
  <cp:revision>9</cp:revision>
  <dc:subject/>
  <dc:title>PowerPoint Presentation</dc:title>
</cp:coreProperties>
</file>